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yahooc.wav" ContentType="audio/x-wav"/>
  <Override PartName="/ppt/media/image3.jpeg" ContentType="image/jpeg"/>
  <Override PartName="/ppt/media/image4.jpeg" ContentType="image/jpeg"/>
  <Override PartName="/ppt/media/bee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29CE-2679-4678-A31D-50384000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slide: “Doctors can be female, you know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657-B00F-4754-AB2F-DDB189C9B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68F-0BA0-4A19-96D6-FB680ED5A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28F-DD60-45ED-9BA6-15D70E9F7A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2A4-EC2A-4C71-980A-3F3CADAF2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e sound from http://www.brandens.net/snd_list.php?cat=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355-1681-4780-AD35-66E22A41E1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D55-0349-4C29-968E-D479695BC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3B8-37DC-4BC0-84A9-AB71D50F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4C5-9755-4992-8180-563FA5E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C5D-C924-4CC4-AF1C-48F0F114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753-AA32-48E1-9480-9B9FDC2C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CDF-6323-452A-B277-F38C85FE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254-9324-42CF-8C37-EBC8343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368-9C48-40C1-85F6-BBCC392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AD0-34C7-465F-9D94-BE36D3D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AB1-62CA-4625-AD1B-0A11E70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22E-F692-45F7-9DB7-A1ACC45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5EA-5FBF-4FA0-A751-6C347C6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D4C-7E9A-46A7-8749-87EFF649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DDB-C73F-4E79-8DF5-724D8F40EA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yahooc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bee.wav"/><Relationship Id="rId4" Type="http://schemas.openxmlformats.org/officeDocument/2006/relationships/audio" Target="../media/be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octor told Veronica that she ha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the headaches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do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ld Veronica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heada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380880" y="152388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do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ld Veronica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roni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aches because of the high stress level a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. An aspirin would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heada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it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a vacation would relieve the stress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tor 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r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doctor.jpg"/>
          <p:cNvPicPr/>
          <p:nvPr/>
        </p:nvPicPr>
        <p:blipFill>
          <a:blip r:embed="rId1"/>
          <a:stretch/>
        </p:blipFill>
        <p:spPr>
          <a:xfrm>
            <a:off x="4572000" y="457200"/>
            <a:ext cx="2562120" cy="615960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4"/>
          <p:cNvSpPr/>
          <p:nvPr/>
        </p:nvSpPr>
        <p:spPr>
          <a:xfrm>
            <a:off x="1447920" y="1981080"/>
            <a:ext cx="2133360" cy="1752840"/>
          </a:xfrm>
          <a:prstGeom prst="wedgeRoundRectCallout">
            <a:avLst>
              <a:gd name="adj1" fmla="val 161782"/>
              <a:gd name="adj2" fmla="val -868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tors a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a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They are serving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 are ser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ddie is unhappy with the unhealthy cafeteria choic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 are ser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e fried foods and fewer fruits and veget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chefs are ser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that the old house on Mayfair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the sto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gh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that the old house on Mayfair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s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h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380880" y="1600200"/>
            <a:ext cx="8382240" cy="5105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ighb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that the old house on Mayfair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unted, but Caroline doesn’t belie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s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a physics major who has no use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h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It claimed at the website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claimed at the web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33520" y="1905120"/>
            <a:ext cx="8076960" cy="3809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onardo called us over and pointed at the computer screen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claimed at the web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our favorite restaurant serves squirr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website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website, it clai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she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their mouths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themsel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 mouth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selv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didn’t raise her childre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right. The girls didn’t chew with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 mouth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losed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nd the boys burped without excusing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selv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M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Julia that she needed a 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a that she needed a lion 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told Aun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a that she needed a lion tamer to get the children unde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“that she need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Julia, “I need … contro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lia, You need …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rover on Mar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if water is evident, the govern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Ma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if water is evident,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380880" y="1600200"/>
            <a:ext cx="830592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SA just landed ano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Ma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ti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 if water is evident,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begin colonization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The label says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label s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57200" y="1828800"/>
            <a:ext cx="822960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 that back on the shelf!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label s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uctose corn syrup and partially hydrogenated oils are ingred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claim on the l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label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her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every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rtb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art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explained to Diane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ara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uce was 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ty and too garlicky and would g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art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ara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choices.jpg"/>
          <p:cNvPicPr/>
          <p:nvPr/>
        </p:nvPicPr>
        <p:blipFill>
          <a:blip r:embed="rId1"/>
          <a:stretch/>
        </p:blipFill>
        <p:spPr>
          <a:xfrm>
            <a:off x="2362320" y="2116080"/>
            <a:ext cx="3809880" cy="458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Referenc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1295280" y="4876920"/>
            <a:ext cx="1905120" cy="1143000"/>
          </a:xfrm>
          <a:prstGeom prst="wedgeRoundRectCallout">
            <a:avLst>
              <a:gd name="adj1" fmla="val 110925"/>
              <a:gd name="adj2" fmla="val -21863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I say jus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5791320" y="4876920"/>
            <a:ext cx="2361960" cy="1600200"/>
          </a:xfrm>
          <a:prstGeom prst="wedgeRoundRectCallout">
            <a:avLst>
              <a:gd name="adj1" fmla="val -101379"/>
              <a:gd name="adj2" fmla="val -16913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ha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smereld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2286000" y="22096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cheer.jpg"/>
          <p:cNvPicPr/>
          <p:nvPr/>
        </p:nvPicPr>
        <p:blipFill>
          <a:blip r:embed="rId1"/>
          <a:stretch/>
        </p:blipFill>
        <p:spPr>
          <a:xfrm>
            <a:off x="3886200" y="3048120"/>
            <a:ext cx="151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jump.jpg"/>
          <p:cNvPicPr/>
          <p:nvPr/>
        </p:nvPicPr>
        <p:blipFill>
          <a:blip r:embed="rId1"/>
          <a:stretch/>
        </p:blipFill>
        <p:spPr>
          <a:xfrm>
            <a:off x="914400" y="1066680"/>
            <a:ext cx="4048200" cy="48769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20384"/>
              <a:gd name="adj2" fmla="val -6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identify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unclear pronoun re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electing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propriate 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referenc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his lab partner Craig that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the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ab partner Craig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experi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85800" y="1676520"/>
            <a:ext cx="7772400" cy="41907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 tol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ab partner Craig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ai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ed safety goggles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 experi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ra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armscrossed.jpg"/>
          <p:cNvPicPr/>
          <p:nvPr/>
        </p:nvPicPr>
        <p:blipFill>
          <a:blip r:embed="rId1"/>
          <a:stretch/>
        </p:blipFill>
        <p:spPr>
          <a:xfrm>
            <a:off x="7467480" y="3276720"/>
            <a:ext cx="1467000" cy="335268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4267080" y="3657600"/>
            <a:ext cx="2210040" cy="1676520"/>
          </a:xfrm>
          <a:prstGeom prst="wedgeRoundRectCallout">
            <a:avLst>
              <a:gd name="adj1" fmla="val 125462"/>
              <a:gd name="adj2" fmla="val -4865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 experimen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4038480" y="3657600"/>
            <a:ext cx="2438640" cy="1676520"/>
          </a:xfrm>
          <a:prstGeom prst="wedgeRoundRectCallout">
            <a:avLst>
              <a:gd name="adj1" fmla="val 117620"/>
              <a:gd name="adj2" fmla="val -4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mbigu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noun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signal.jpg"/>
          <p:cNvPicPr/>
          <p:nvPr/>
        </p:nvPicPr>
        <p:blipFill>
          <a:blip r:embed="rId1"/>
          <a:srcRect l="0" t="0" r="0" b="21879"/>
          <a:stretch/>
        </p:blipFill>
        <p:spPr>
          <a:xfrm>
            <a:off x="0" y="3048120"/>
            <a:ext cx="2467080" cy="3809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wo or More People, Same Gender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0106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 he 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ounded Rectangular Callout 9"/>
          <p:cNvSpPr/>
          <p:nvPr/>
        </p:nvSpPr>
        <p:spPr>
          <a:xfrm>
            <a:off x="4038480" y="5029200"/>
            <a:ext cx="3581640" cy="1676520"/>
          </a:xfrm>
          <a:prstGeom prst="wedgeRoundRectCallout">
            <a:avLst>
              <a:gd name="adj1" fmla="val -98379"/>
              <a:gd name="adj2" fmla="val -27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Martin complaining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is 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math skill 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Brad’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art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 th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ra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d not have the right answers to the algebra probl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 “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have the right answers to the algebra problems.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ubtitle 2"/>
          <p:cNvSpPr/>
          <p:nvPr/>
        </p:nvSpPr>
        <p:spPr>
          <a:xfrm>
            <a:off x="1066680" y="24382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tin complained to Brad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 “Yo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have the right answers to the algebra problems.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ounded Rectangular Callout 19"/>
          <p:cNvSpPr/>
          <p:nvPr/>
        </p:nvSpPr>
        <p:spPr>
          <a:xfrm>
            <a:off x="4038480" y="5029200"/>
            <a:ext cx="3581640" cy="1676520"/>
          </a:xfrm>
          <a:prstGeom prst="wedgeRoundRectCallout">
            <a:avLst>
              <a:gd name="adj1" fmla="val -98379"/>
              <a:gd name="adj2" fmla="val -2760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don’t like the repetition of the names, add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qu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111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61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armscrossed.jpg"/>
          <p:cNvPicPr/>
          <p:nvPr/>
        </p:nvPicPr>
        <p:blipFill>
          <a:blip r:embed="rId1"/>
          <a:stretch/>
        </p:blipFill>
        <p:spPr>
          <a:xfrm>
            <a:off x="228600" y="4114800"/>
            <a:ext cx="120024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mbiguous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They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 garden has not attracted many bees this year. They say that these insects are disappearing all over the country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ounded Rectangular Callout 9"/>
          <p:cNvSpPr/>
          <p:nvPr/>
        </p:nvSpPr>
        <p:spPr>
          <a:xfrm>
            <a:off x="2057400" y="4800600"/>
            <a:ext cx="3581280" cy="1600200"/>
          </a:xfrm>
          <a:prstGeom prst="wedgeRoundRectCallout">
            <a:avLst>
              <a:gd name="adj1" fmla="val -84490"/>
              <a:gd name="adj2" fmla="val -7161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h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Psychic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Astrolog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respecta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lik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ntomologis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4" descr="bee02.jpg"/>
          <p:cNvPicPr/>
          <p:nvPr/>
        </p:nvPicPr>
        <p:blipFill>
          <a:blip r:embed="rId2"/>
          <a:stretch/>
        </p:blipFill>
        <p:spPr>
          <a:xfrm>
            <a:off x="8421840" y="380880"/>
            <a:ext cx="722160" cy="381240"/>
          </a:xfrm>
          <a:prstGeom prst="rect">
            <a:avLst/>
          </a:prstGeom>
          <a:ln w="0">
            <a:noFill/>
          </a:ln>
        </p:spPr>
      </p:pic>
      <p:sp>
        <p:nvSpPr>
          <p:cNvPr id="118" name="Rounded Rectangular Callout 15"/>
          <p:cNvSpPr/>
          <p:nvPr/>
        </p:nvSpPr>
        <p:spPr>
          <a:xfrm>
            <a:off x="5715000" y="5562720"/>
            <a:ext cx="2133720" cy="1066680"/>
          </a:xfrm>
          <a:prstGeom prst="wedgeRoundRectCallout">
            <a:avLst>
              <a:gd name="adj1" fmla="val 52115"/>
              <a:gd name="adj2" fmla="val -6172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ay! That’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h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1066680" y="1981080"/>
            <a:ext cx="7010640" cy="1981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 garden has not attracted many bees this year.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cientis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y that these insects are disappearing all over the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721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21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.wav"/>
                                        </p:tgtEl>
                                      </p:cMediaNode>
                                    </p:audio>
                                    <p:animMotion origin="layout" path="M 0.01302 0.04213 C 0.0092 0.04699 0.00503 0.05047 0.00121 0.05556 C -0.00052 0.06297 -0.00191 0.07037 -0.00365 0.07778 C -0.00174 0.12662 -0.00313 0.10764 0.00468 0.13773 C 0.0059 0.14954 0.00625 0.1625 0.01302 0.17107 C 0.01597 0.1919 0.02604 0.22732 0.00625 0.23542 C -0.00504 0.24561 -0.0007 0.24074 -0.00712 0.24885 C -0.00886 0.25648 -0.01111 0.26088 -0.01545 0.26667 C -0.01893 0.28079 -0.02188 0.29676 -0.01545 0.31111 C -0.01459 0.31297 -0.01302 0.31389 -0.01198 0.31551 C -0.00955 0.31968 -0.00816 0.325 -0.00539 0.32871 C -0.00261 0.33241 0.00295 0.33959 0.00295 0.33982 C 0.00642 0.35348 0.01493 0.36088 0.01961 0.37315 C 0.02205 0.37894 0.02465 0.39306 0.02465 0.39352 C 0.02639 0.41459 0.03246 0.45324 0.02291 0.46875 C 0.0217 0.47084 0.01944 0.47153 0.01788 0.47315 C 0.01666 0.47454 0.01562 0.47616 0.01458 0.47778 C 0.00937 0.48658 0.00989 0.48843 0.00121 0.49098 C -0.00782 0.49908 -0.00556 0.50602 -0.01372 0.5132 C -0.01424 0.51551 -0.01493 0.5176 -0.01545 0.51991 C -0.0165 0.52408 -0.01875 0.53334 -0.01875 0.53357 C -0.01719 0.55996 -0.02118 0.56019 -0.00868 0.57107 C -0.00591 0.58264 -0.00834 0.57639 0.00121 0.58889 C 0.00399 0.59236 0.00955 0.59977 0.00955 0.6 C 0.01354 0.61482 0.01996 0.64931 0.00625 0.65533 C 0.00347 0.65926 0.00017 0.66227 -0.00209 0.66667 C -0.00313 0.66875 -0.00365 0.67176 -0.00539 0.67315 C -0.01111 0.67755 -0.02761 0.68056 -0.03212 0.68195 C -0.05643 0.69028 -0.02552 0.6838 -0.05539 0.68889 C -0.05712 0.69028 -0.0592 0.69121 -0.06042 0.69329 C -0.06146 0.69514 -0.06077 0.69838 -0.06198 0.69977 C -0.06372 0.70209 -0.06702 0.70209 -0.06875 0.70417 E">
                                      <p:cBhvr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701"/>
                            </p:stCondLst>
                            <p:childTnLst>
                              <p:par>
                                <p:cTn id="168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701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.wav"/>
                                        </p:tgtEl>
                                      </p:cMediaNode>
                                    </p:audio>
                                    <p:animMotion origin="layout" path="M -0.08837 0.70417 C -0.09045 0.69445 -0.09358 0.69144 -0.09827 0.68449 C -0.10295 0.66366 -0.11806 0.64584 -0.12917 0.63218 C -0.13716 0.62176 -0.13924 0.61436 -0.14861 0.60973 C -0.15313 0.60371 -0.16216 0.59607 -0.16789 0.59329 C -0.17309 0.58635 -0.17691 0.58241 -0.18351 0.5794 C -0.19427 0.56922 -0.21302 0.56042 -0.22639 0.56019 C -0.35695 0.55834 -0.48768 0.55834 -0.61858 0.55741 C -0.63351 0.55463 -0.64809 0.55139 -0.66302 0.5463 C -0.68907 0.53704 -0.71389 0.51875 -0.74063 0.51297 C -0.76407 0.50764 -0.78681 0.5088 -0.81077 0.50741 C -0.84636 0.50023 -0.88473 0.50047 -0.91927 0.48542 C -0.93316 0.47986 -0.94132 0.46945 -0.95417 0.4632 C -0.9599 0.45533 -0.9658 0.44792 -0.97344 0.44398 C -0.9823 0.43195 -0.99844 0.42778 -1.01042 0.42778 E">
                                      <p:cBhvr>
                                        <p:cTn id="17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kneel.jpg"/>
          <p:cNvPicPr/>
          <p:nvPr/>
        </p:nvPicPr>
        <p:blipFill>
          <a:blip r:embed="rId1"/>
          <a:stretch/>
        </p:blipFill>
        <p:spPr>
          <a:xfrm>
            <a:off x="846000" y="4343400"/>
            <a:ext cx="171936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600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mbiguous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I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ays on the news that we can expect rain later today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Rounded Rectangular Callout 9"/>
          <p:cNvSpPr/>
          <p:nvPr/>
        </p:nvSpPr>
        <p:spPr>
          <a:xfrm>
            <a:off x="4038480" y="4648320"/>
            <a:ext cx="3810240" cy="2057400"/>
          </a:xfrm>
          <a:prstGeom prst="wedgeRoundRectCallout">
            <a:avLst>
              <a:gd name="adj1" fmla="val -98425"/>
              <a:gd name="adj2" fmla="val -3086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s?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newscas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eatherm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Doppler rad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066680" y="2438280"/>
            <a:ext cx="701064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om Terry, Channel 9’s chief meteorologis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ys that we can expect rain later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81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81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signal.jpg"/>
          <p:cNvPicPr/>
          <p:nvPr/>
        </p:nvPicPr>
        <p:blipFill>
          <a:blip r:embed="rId1"/>
          <a:srcRect l="0" t="0" r="0" b="21879"/>
          <a:stretch/>
        </p:blipFill>
        <p:spPr>
          <a:xfrm>
            <a:off x="2743200" y="3637080"/>
            <a:ext cx="2085840" cy="322092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ular Callout 6"/>
          <p:cNvSpPr/>
          <p:nvPr/>
        </p:nvSpPr>
        <p:spPr>
          <a:xfrm>
            <a:off x="6477120" y="4495680"/>
            <a:ext cx="2133360" cy="1752840"/>
          </a:xfrm>
          <a:prstGeom prst="wedgeRoundRectCallout">
            <a:avLst>
              <a:gd name="adj1" fmla="val -139648"/>
              <a:gd name="adj2" fmla="val 1489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! Let’s se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451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951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i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ys at the lifeguard stand that shark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says at the lifeguard 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harks are 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ecided to swim in the hotel pool si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 says at the lifeguard 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harks are feeding near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states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say at the lifeguard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lifeguard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dc:language>en-US</dc:language>
  <cp:lastModifiedBy>RSimmons</cp:lastModifiedBy>
  <dcterms:modified xsi:type="dcterms:W3CDTF">2010-01-04T18:33:05Z</dcterms:modified>
  <cp:revision>227</cp:revision>
  <dc:subject/>
  <dc:title>Pronoun Reference</dc:title>
</cp:coreProperties>
</file>